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A3CB-78E7-4882-805D-CCCE24E1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1C35-3D58-4348-9662-5B5C2280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5A10-7A74-4C89-9939-65D342A5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C05E-0333-4763-ADBB-81CC7790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A50B-823A-4A98-B493-A52ED53F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C3E0-F909-49C3-BE60-055963D0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FE10-02F5-423E-B49F-6CB0CD3A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3E3F-C5F2-4ED6-920D-3E7895E3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C84B-2B91-4DF9-BA9B-B2FB54B2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6869-F3F6-4669-AE4B-627ABFD6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B4DA-C61A-4553-B4A6-917D47D7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045A-9C96-41FC-8070-9333C6E1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93cddd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D82B-3BA9-4E54-8FEB-DE550223E8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lubs.ya.ru/4611686018427394590/replies.xml?item_no=40817" TargetMode="External"/><Relationship Id="rId2" Type="http://schemas.openxmlformats.org/officeDocument/2006/relationships/hyperlink" Target="http://visitkazakhstan.nur.kz/ru/guide/tours/10/0/" TargetMode="External"/><Relationship Id="rId3" Type="http://schemas.openxmlformats.org/officeDocument/2006/relationships/hyperlink" Target="http://blogs.privet.ru/community/astronomy/tags/191144" TargetMode="External"/><Relationship Id="rId4" Type="http://schemas.openxmlformats.org/officeDocument/2006/relationships/hyperlink" Target="http://www.novosti-kosmonavtiki.ru/content/numbers/237/40.shtml" TargetMode="Externa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Викторина</a:t>
            </a:r>
            <a:br>
              <a:rPr sz="4400"/>
            </a:br>
            <a:r>
              <a:rPr b="1" lang="ru-RU" sz="44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«Освоение космос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Владелец\Desktop\2_1_~1.JPG"/>
          <p:cNvPicPr/>
          <p:nvPr/>
        </p:nvPicPr>
        <p:blipFill>
          <a:blip r:embed="rId1"/>
          <a:stretch/>
        </p:blipFill>
        <p:spPr>
          <a:xfrm>
            <a:off x="1258920" y="1628640"/>
            <a:ext cx="69580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Calibri"/>
              </a:rPr>
              <a:t>9. Кто первым в мире вышел в открытый космос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000" y="3429000"/>
            <a:ext cx="359892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Алексей Архипович Леонов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Владелец\Desktop\Leonov-10.jpg"/>
          <p:cNvPicPr/>
          <p:nvPr/>
        </p:nvPicPr>
        <p:blipFill>
          <a:blip r:embed="rId1"/>
          <a:stretch/>
        </p:blipFill>
        <p:spPr>
          <a:xfrm>
            <a:off x="4522680" y="2349360"/>
            <a:ext cx="333540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Calibri"/>
              </a:rPr>
              <a:t>10.  Кто стал первым человеком, ступившим на поверхность Луны?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3429000"/>
            <a:ext cx="3538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Нил Армстрон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Users\Владелец\Desktop\ess_moon_cernan.jpg"/>
          <p:cNvPicPr/>
          <p:nvPr/>
        </p:nvPicPr>
        <p:blipFill>
          <a:blip r:embed="rId1"/>
          <a:stretch/>
        </p:blipFill>
        <p:spPr>
          <a:xfrm>
            <a:off x="4643280" y="2571840"/>
            <a:ext cx="400536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50752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11. Как называются русский и американский космические корабли многоразового использова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3429000"/>
            <a:ext cx="370836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«Буран»  «Шаттл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Users\Владелец\Desktop\1237041514_1.jpg"/>
          <p:cNvPicPr/>
          <p:nvPr/>
        </p:nvPicPr>
        <p:blipFill>
          <a:blip r:embed="rId1"/>
          <a:stretch/>
        </p:blipFill>
        <p:spPr>
          <a:xfrm>
            <a:off x="3132000" y="2276640"/>
            <a:ext cx="573912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12. Какие космодромы есть сейчас</a:t>
            </a: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 на территории Росси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Владелец\Desktop\da50bf3fef7557c86397e32b19d.jpg"/>
          <p:cNvPicPr/>
          <p:nvPr/>
        </p:nvPicPr>
        <p:blipFill>
          <a:blip r:embed="rId1"/>
          <a:stretch/>
        </p:blipFill>
        <p:spPr>
          <a:xfrm>
            <a:off x="3995640" y="2421000"/>
            <a:ext cx="4667400" cy="30765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0" y="2924280"/>
            <a:ext cx="414036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«Плесецк»  «Восточны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6920" y="274680"/>
            <a:ext cx="756144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66"/>
                </a:solidFill>
                <a:latin typeface="Calibri"/>
              </a:rPr>
              <a:t>Выдающихся  людей  надо   знать  в  лицо.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83628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4000" spc="-1" strike="noStrike">
                <a:solidFill>
                  <a:srgbClr val="960000"/>
                </a:solidFill>
                <a:latin typeface="Calibri"/>
              </a:rPr>
              <a:t>Перед вами портреты людей, чьи имена навсегда останутся в памяти человечества. Вам необходимо назвать их имен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580000" y="2060640"/>
            <a:ext cx="3384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Николай Копер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3"/>
          <p:cNvPicPr/>
          <p:nvPr/>
        </p:nvPicPr>
        <p:blipFill>
          <a:blip r:embed="rId1"/>
          <a:stretch/>
        </p:blipFill>
        <p:spPr>
          <a:xfrm>
            <a:off x="539640" y="333360"/>
            <a:ext cx="458964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580000" y="2060640"/>
            <a:ext cx="3384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Галилео Гали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Galileo.arp.300pix.jpg"/>
          <p:cNvPicPr/>
          <p:nvPr/>
        </p:nvPicPr>
        <p:blipFill>
          <a:blip r:embed="rId1"/>
          <a:stretch/>
        </p:blipFill>
        <p:spPr>
          <a:xfrm>
            <a:off x="468360" y="549360"/>
            <a:ext cx="47498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580000" y="2060640"/>
            <a:ext cx="3384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Исаак Ньют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10_03_31_09_32_nyuton"/>
          <p:cNvPicPr/>
          <p:nvPr/>
        </p:nvPicPr>
        <p:blipFill>
          <a:blip r:embed="rId1"/>
          <a:stretch/>
        </p:blipFill>
        <p:spPr>
          <a:xfrm>
            <a:off x="395280" y="333360"/>
            <a:ext cx="476244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580000" y="2060640"/>
            <a:ext cx="3384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Михаил Ломоно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Lomonosov_(3)"/>
          <p:cNvPicPr/>
          <p:nvPr/>
        </p:nvPicPr>
        <p:blipFill>
          <a:blip r:embed="rId1"/>
          <a:stretch/>
        </p:blipFill>
        <p:spPr>
          <a:xfrm>
            <a:off x="250920" y="333360"/>
            <a:ext cx="51004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42560" y="5660640"/>
            <a:ext cx="7921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Константин Циолковс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cioklovskii"/>
          <p:cNvPicPr/>
          <p:nvPr/>
        </p:nvPicPr>
        <p:blipFill>
          <a:blip r:embed="rId1"/>
          <a:stretch/>
        </p:blipFill>
        <p:spPr>
          <a:xfrm>
            <a:off x="971640" y="476280"/>
            <a:ext cx="741672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1. Кто сказал слова: "Облетев Землю в корабле-спутнике, я увидел, как прекрасна наша планета. Люди, будем хранить, и преумножать эту красоту, а не разрушать ее”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3640" y="3500280"/>
            <a:ext cx="360036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960000"/>
                </a:solidFill>
                <a:latin typeface="Calibri"/>
              </a:rPr>
              <a:t>Юрий Гагар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Владелец\Desktop\36286362.jpg"/>
          <p:cNvPicPr/>
          <p:nvPr/>
        </p:nvPicPr>
        <p:blipFill>
          <a:blip r:embed="rId1"/>
          <a:stretch/>
        </p:blipFill>
        <p:spPr>
          <a:xfrm>
            <a:off x="3643200" y="2928960"/>
            <a:ext cx="473868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580000" y="2060640"/>
            <a:ext cx="3384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Сергей Павлович Корол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korolev_01"/>
          <p:cNvPicPr/>
          <p:nvPr/>
        </p:nvPicPr>
        <p:blipFill>
          <a:blip r:embed="rId1"/>
          <a:stretch/>
        </p:blipFill>
        <p:spPr>
          <a:xfrm>
            <a:off x="415800" y="404640"/>
            <a:ext cx="45658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940000" y="2060640"/>
            <a:ext cx="30243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Юрий Гагар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1812"/>
          <p:cNvPicPr/>
          <p:nvPr/>
        </p:nvPicPr>
        <p:blipFill>
          <a:blip r:embed="rId1"/>
          <a:stretch/>
        </p:blipFill>
        <p:spPr>
          <a:xfrm>
            <a:off x="395280" y="907920"/>
            <a:ext cx="576108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580000" y="2060640"/>
            <a:ext cx="3384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Валентина Терешк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50896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357120" y="1357200"/>
            <a:ext cx="835812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clubs.ya.ru/4611686018427394590/replies.xml?item_no=408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visitkazakhstan.nur.kz/ru/guide/tours/10/0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blogs.privet.ru/community/astronomy/tags/191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novosti-kosmonavtiki.ru/content/numbers/237/40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vspu.ac.ru/~mog/interex/kaluga/history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proshkolu.ru/user/kubrina13/file/497682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it-day.ru/article/archives/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bg-znanie.ru/rubrics.php?r_id=11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lion.poseidon.travel/tourist_encyclopedia/Encuklopediya_poseidon/424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coronas.izmiran.ru/plesetsk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persona.rin.ru/photo/10596/tereshkova-valentina-vladimirov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cosmicnews.ru/2009/04/astronomy-obnaruzhili-samuyu-legkuyu-iz-izvestnyx-ekzopla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900igr.net/kartinki/kosmos-gorod-transport/Mashin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1001vopros.com/2010/05/05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583200" y="85716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тернет-рес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Назовите планеты Солнечной системы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5-конечная звезда 3"/>
          <p:cNvSpPr/>
          <p:nvPr/>
        </p:nvSpPr>
        <p:spPr>
          <a:xfrm>
            <a:off x="500040" y="542916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Владелец\Desktop\53879201_solsys.jpg"/>
          <p:cNvPicPr/>
          <p:nvPr/>
        </p:nvPicPr>
        <p:blipFill>
          <a:blip r:embed="rId1"/>
          <a:stretch/>
        </p:blipFill>
        <p:spPr>
          <a:xfrm>
            <a:off x="4214880" y="2428920"/>
            <a:ext cx="3905280" cy="396252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4" descr=""/>
          <p:cNvPicPr/>
          <p:nvPr/>
        </p:nvPicPr>
        <p:blipFill>
          <a:blip r:embed="rId2"/>
          <a:stretch/>
        </p:blipFill>
        <p:spPr>
          <a:xfrm>
            <a:off x="1206360" y="1560600"/>
            <a:ext cx="258444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000066"/>
                </a:solidFill>
                <a:latin typeface="Calibri"/>
              </a:rPr>
              <a:t>2. Назовите русского ученого, основоположника космонавтики.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3429000"/>
            <a:ext cx="4546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Константин Эдуардович  Циолковс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Владелец\Desktop\9486.jpg"/>
          <p:cNvPicPr/>
          <p:nvPr/>
        </p:nvPicPr>
        <p:blipFill>
          <a:blip r:embed="rId1"/>
          <a:stretch/>
        </p:blipFill>
        <p:spPr>
          <a:xfrm>
            <a:off x="5651640" y="2349360"/>
            <a:ext cx="2857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Calibri"/>
              </a:rPr>
              <a:t>3. Назовите первый космический аппарат, выведенный на орбиту Земли Советским Союзом в 1957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3640" y="3141720"/>
            <a:ext cx="367164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60000"/>
                </a:solidFill>
                <a:latin typeface="Calibri"/>
              </a:rPr>
              <a:t>«Спутни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Владелец\Desktop\Ris_1_2_2.jpg"/>
          <p:cNvPicPr/>
          <p:nvPr/>
        </p:nvPicPr>
        <p:blipFill>
          <a:blip r:embed="rId1"/>
          <a:stretch/>
        </p:blipFill>
        <p:spPr>
          <a:xfrm>
            <a:off x="3276720" y="2421000"/>
            <a:ext cx="54864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25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4. Назовите главного конструктора первых советских космических рак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3284280"/>
            <a:ext cx="374472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60000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960000"/>
                </a:solidFill>
                <a:latin typeface="Calibri"/>
              </a:rPr>
              <a:t>Сергей Павлович Корол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Владелец\Desktop\03.jpg"/>
          <p:cNvPicPr/>
          <p:nvPr/>
        </p:nvPicPr>
        <p:blipFill>
          <a:blip r:embed="rId1"/>
          <a:stretch/>
        </p:blipFill>
        <p:spPr>
          <a:xfrm>
            <a:off x="3071880" y="2286000"/>
            <a:ext cx="571500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66"/>
                </a:solidFill>
                <a:latin typeface="Calibri"/>
              </a:rPr>
              <a:t>5.  В каком году состоялся первый полёт человека в космос?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3429000"/>
            <a:ext cx="3970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12 апреля 1961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Владелец\Desktop\128152841515_tour.jpg"/>
          <p:cNvPicPr/>
          <p:nvPr/>
        </p:nvPicPr>
        <p:blipFill>
          <a:blip r:embed="rId1"/>
          <a:stretch/>
        </p:blipFill>
        <p:spPr>
          <a:xfrm>
            <a:off x="3571920" y="2928960"/>
            <a:ext cx="513072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6. Как назывался космический корабль, на борту которого первый космонавт планеты совершил полё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280" y="3429000"/>
            <a:ext cx="403236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«Восто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Владелец\Desktop\797.jpg"/>
          <p:cNvPicPr/>
          <p:nvPr/>
        </p:nvPicPr>
        <p:blipFill>
          <a:blip r:embed="rId1"/>
          <a:stretch/>
        </p:blipFill>
        <p:spPr>
          <a:xfrm>
            <a:off x="5148360" y="2708280"/>
            <a:ext cx="28335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21044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7. Сколько длился полет Юрия Гагарин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280" y="3429000"/>
            <a:ext cx="381636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  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108 мин =  1 ч 48 м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Владелец\Desktop\797.jpg"/>
          <p:cNvPicPr/>
          <p:nvPr/>
        </p:nvPicPr>
        <p:blipFill>
          <a:blip r:embed="rId1"/>
          <a:stretch/>
        </p:blipFill>
        <p:spPr>
          <a:xfrm>
            <a:off x="5148360" y="2708280"/>
            <a:ext cx="28335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720108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Calibri"/>
              </a:rPr>
              <a:t>8. Первая в мире    женщина-космонав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3429000"/>
            <a:ext cx="428472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60000"/>
                </a:solidFill>
                <a:latin typeface="Calibri"/>
              </a:rPr>
              <a:t>  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Валентина Владимировна Терешк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Владелец\Desktop\21544.jpg"/>
          <p:cNvPicPr/>
          <p:nvPr/>
        </p:nvPicPr>
        <p:blipFill>
          <a:blip r:embed="rId1"/>
          <a:stretch/>
        </p:blipFill>
        <p:spPr>
          <a:xfrm>
            <a:off x="4716360" y="2565360"/>
            <a:ext cx="29052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7:58:57Z</dcterms:created>
  <dc:creator>Владелец</dc:creator>
  <dc:description/>
  <dc:language>en-US</dc:language>
  <cp:lastModifiedBy>ASUS</cp:lastModifiedBy>
  <dcterms:modified xsi:type="dcterms:W3CDTF">2015-04-08T16:16:45Z</dcterms:modified>
  <cp:revision>15</cp:revision>
  <dc:subject/>
  <dc:title>Кто сказал слова: "Облетев Землю в корабле-спутнике, я увидел, как прекрасна наша планета. Люди, будем хранить, и преумножать эту красоту, а не разрушать ее”. </dc:title>
</cp:coreProperties>
</file>